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18FC-E2F9-48D1-AF45-323BB8B05E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81DE-E331-4C71-B27F-C6F22761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0B48-A880-45C8-B279-EF1E2C5D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AE5DF-4A5A-4845-8F6A-2CBF3FE1F9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8267-7826-4867-8823-E2EEBDC2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FD06-B59C-41B5-B46A-C0F58DDF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EE5E-2FDA-44BA-9024-71672633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CB240-492D-412F-B8DB-93B7495E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7A28-1E74-424C-8EF9-09E5620E2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EC37-62F4-43D1-97CA-2ED70DF1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E89C-240A-42D8-AC08-33B772C8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BCBA-A04D-4F5D-B4C9-554E9577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AC4A-42DE-43F8-9AF2-E58A45235A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处理伤口，及时止血、包扎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禁饮、禁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静止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及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变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抗生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普及急救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损伤可由刀刺等锐器伤引起，闭合性损伤可由碰撞等钝性暴力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的典型特点是以腹腔内出血为主，腹腔穿刺可以抽出大量不凝的血液。空腔脏器损伤主要以腹膜刺激征表现为主。常见脏器损伤包括脾破裂、肝破裂、胰腺损伤和肠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抢救生命，然后处理腹部损伤。若有内脏脱出，应用消毒器皿覆盖保护脱出的内脏，简单包扎后积极转运。已确诊或高度怀疑内脏损伤者急诊手术。非手术治疗期间应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医师进行急救。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，应注意观察病情变化、卧床休息、遵医嘱禁食补液、抗感染、镇静止痛、提供心理支持、完善术前准备。术后注意监测病情变化，抗感染，禁食、胃肠减压，做好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腹部损伤的分类和常见致伤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腹部实质性脏器损伤和空腔性脏器损伤临床表现的异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明腹部损伤的急救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腹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晚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被人用木棍打伤腹部，腹部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由家人送医院就诊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6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面色苍白，右侧中上腹见长形青紫瘀斑，腹胀明显，呈板状，移动性浊音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肠鸣音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腹腔积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穿刺液检验：黄色、微浑，白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+++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红细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±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质性脏器损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腔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膜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脏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脾、肝、胰、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穿刺术和腹腔灌洗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其他影像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腹腔镜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首先应处理对生命威胁最大的伤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8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小肠破裂，急诊行小肠一期缝合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问题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八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腹部损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与损伤致腹腔内出血、各种损伤脏器内容物渗出及呕吐、禁食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腹部积液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休克、腹膜炎、腹腔脓肿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5:29Z</dcterms:modified>
  <cp:revision>91</cp:revision>
  <dc:subject/>
  <dc:title>内科护理学</dc:title>
</cp:coreProperties>
</file>